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png" ContentType="image/png"/>
  <Override PartName="/ppt/media/image50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7.wmf" ContentType="image/x-wmf"/>
  <Override PartName="/ppt/media/image49.wmf" ContentType="image/x-wmf"/>
  <Override PartName="/ppt/media/image31.wmf" ContentType="image/x-wmf"/>
  <Override PartName="/ppt/media/image51.wmf" ContentType="image/x-wmf"/>
  <Override PartName="/ppt/media/image11.png" ContentType="image/png"/>
  <Override PartName="/ppt/media/image30.wmf" ContentType="image/x-wmf"/>
  <Override PartName="/ppt/media/image42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52.wmf" ContentType="image/x-wmf"/>
  <Override PartName="/ppt/media/image40.wmf" ContentType="image/x-wmf"/>
  <Override PartName="/ppt/media/image7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4007-6AA5-4B4A-900F-E0549C3EB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833C-149B-4B20-8484-0C24BD6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3F29-EAEB-4C78-8FE1-853C4B3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D1AC-D126-4EFF-94D9-2BF090481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FCB35-17E1-4370-A050-784F9DC0D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1DFF-248B-4326-A075-DC8701C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461CE-8DBF-41BD-8973-97E02D6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35D7E-EEEE-43A9-9AEA-B4CEA3F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AEFB5-6B32-40DB-86CD-82558857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A22EB-8303-4192-8C45-103AEC3E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2616C-B62F-40F4-B002-FD4D4DD3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71D6-D703-4B79-9F5A-4DD0C089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B81B-F8E0-4735-81CC-016BC86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F46D-5D15-4C35-9E43-A4C1BEA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C6DAE-1B72-4BD0-8CEB-889AD65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7B2D6-7D98-4827-AC5D-20B5155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556D9-3734-4F20-AB63-6AB530D43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A14E-DBBC-40EC-A750-AD1BD9C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9A04-1FB6-4C6A-A9C8-5FD589D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9370-CCF7-4844-81C5-702DC96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FDB9-C15D-4B4E-BB98-1B98B206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70FD-A28F-4A50-A307-33149C9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525C-FB67-4AEC-A5F7-E900CEC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3B8D-9490-4463-9E8D-484CB45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A78-6AC9-4B50-9AB2-E93AC0B5377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3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6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3716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4"/>
          </p:nvPr>
        </p:nvSpPr>
        <p:spPr>
          <a:xfrm>
            <a:off x="80773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E468-FD7D-4AC0-A690-CEBFA98F457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&gt;&gt; 3D View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A913-6B66-4540-AAB5-B6F9A778558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enter of Pro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3859" t="45016" r="30832" b="37179"/>
          <a:stretch/>
        </p:blipFill>
        <p:spPr>
          <a:xfrm>
            <a:off x="1143000" y="1752480"/>
            <a:ext cx="3962520" cy="2830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37897" t="45726" r="24778" b="35042"/>
          <a:stretch/>
        </p:blipFill>
        <p:spPr>
          <a:xfrm>
            <a:off x="4876920" y="3124080"/>
            <a:ext cx="3962160" cy="2890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03120" y="205740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pective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4419720"/>
            <a:ext cx="268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C6DB-2313-4886-AAFB-CC8A0CC9C94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ing Classification – Planar Geometric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thograph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p (Plan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xiometr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liq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bi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val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-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-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e-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808A-8AA9-40BC-9A89-BD19391AD7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allel Projections: Orthographic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allel Projectors Perpendicular to Projection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ecial Case of Perspective Proj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34870" t="37892" r="36886" b="44303"/>
          <a:stretch/>
        </p:blipFill>
        <p:spPr>
          <a:xfrm>
            <a:off x="3048120" y="2819520"/>
            <a:ext cx="3429000" cy="30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8DC4-8A36-43CB-82C2-C3E007981A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rthographic Projections: Multi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7805" t="38679" r="39913" b="38902"/>
          <a:stretch/>
        </p:blipFill>
        <p:spPr>
          <a:xfrm>
            <a:off x="5867280" y="3733920"/>
            <a:ext cx="2573280" cy="2530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ical Drafting View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gineering draw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chitectural draw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rves both distance and ang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urate measurement possi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l views are the same sca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itable to Object Views, not sce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nt-Elev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jection Plane Parallel to Principle Fa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p or Plan-Elev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de-Elev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638A-F181-4061-B4BA-38A7F0BA86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rthographic Projections: Axiometric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ion plane can have any orientation to object. Projection plane is not parallel to any of the coordinate plan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16708" t="41452" r="19735" b="31478"/>
          <a:stretch/>
        </p:blipFill>
        <p:spPr>
          <a:xfrm>
            <a:off x="4038480" y="3201840"/>
            <a:ext cx="4800600" cy="304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0CCE-79C0-4D9B-BD27-E390B00DCF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xiometric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omet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etric to three fa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gles between all 3 principal axes are equal (120)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met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etric to two fa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gles between 2 principal exes are equ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met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l Axiometric c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gles differ between ax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rcRect l="25479" t="39154" r="22762" b="48994"/>
          <a:stretch/>
        </p:blipFill>
        <p:spPr>
          <a:xfrm>
            <a:off x="4114800" y="4495680"/>
            <a:ext cx="502920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D594-F7C4-44BC-9C96-A430F29BBC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xiometric Projections Cont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eshortening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ngth is shorter in image space than an object sp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form Foreshorten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As opposed to perspective projections where foreshortening is dependent on distance from object to CO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llel lines preserv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gles are not preserv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2934-E0D6-4F45-82D1-A73233491A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549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lique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5702" t="38602" r="22762" b="37179"/>
          <a:stretch/>
        </p:blipFill>
        <p:spPr>
          <a:xfrm>
            <a:off x="3886200" y="3238560"/>
            <a:ext cx="4495680" cy="2506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allel Projections not Perpendicular to Projection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Can present the exact shape of one face of an obj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perspective foreshortening makes comparison of sizes easi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lays 3D appear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EFC8-F2AE-47C7-9D7F-6EC0B01D16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lique Projection Typ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vali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45-degree Angles from Projection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bi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ctan(2) or 63.4-degree Angles from Projection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0529-DF11-4599-B2FE-CEEC9392B7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erspective View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6800" t="41301" r="36886" b="39353"/>
          <a:stretch/>
        </p:blipFill>
        <p:spPr>
          <a:xfrm>
            <a:off x="3352680" y="403848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jects further away look sma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tural loo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ngth is not preser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eshortening of lines depends on distance from view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0B4F-C62E-404B-A789-A310A42D4D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674280"/>
            <a:ext cx="73152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Frame Rend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Viewpoint &amp; Display Plan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3D Clipp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 of World onto Display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Hidden Surface Remov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Display Color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sterization of 2D Displa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791320"/>
            <a:ext cx="4647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dering order may be changed based on algorithms involv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BB99-C041-434C-B9DC-1140799053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568440"/>
            <a:ext cx="73152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Vanishing Poin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pective Projection of any set of parallel line (not perpendicular to the projection plane) converge to a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anishing 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ty of vanishing poin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e of each set of parallel 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594360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0441-996E-4700-A769-D9C58A98DF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568440"/>
            <a:ext cx="73152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xis Vanishing Poin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nishing point of lines parallel to one of the three principal ax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is one axis vanishing point for each axis cut by the projection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t most, 3 such poi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spective Projections are catagorized by number of axis vanishing poi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ADE8-37B3-44C0-B7A3-BF7C4F7CE7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401920"/>
            <a:ext cx="73152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 Synthetic Camera Mod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43B5-526E-49AA-BCF4-4DB19ACBC6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ynthetic Camera Mod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7915" t="40742" r="35037" b="38602"/>
          <a:stretch/>
        </p:blipFill>
        <p:spPr>
          <a:xfrm>
            <a:off x="2209680" y="2133720"/>
            <a:ext cx="5029200" cy="39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B1CF-E2A3-409F-B2AC-8B6CBF4FBBD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me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34322" t="40029" r="22762" b="41452"/>
          <a:stretch/>
        </p:blipFill>
        <p:spPr>
          <a:xfrm>
            <a:off x="1295280" y="1676520"/>
            <a:ext cx="3733920" cy="2282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23773" t="44303" r="35880" b="37892"/>
          <a:stretch/>
        </p:blipFill>
        <p:spPr>
          <a:xfrm>
            <a:off x="2971800" y="3733920"/>
            <a:ext cx="3733920" cy="233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27805" t="42876" r="35880" b="40029"/>
          <a:stretch/>
        </p:blipFill>
        <p:spPr>
          <a:xfrm>
            <a:off x="5715000" y="1981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6E30-AD8B-41F0-BBBA-D72E125FD01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mera Pro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8724" t="42166" r="19735" b="40742"/>
          <a:stretch/>
        </p:blipFill>
        <p:spPr>
          <a:xfrm>
            <a:off x="1371600" y="2209680"/>
            <a:ext cx="6934320" cy="27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62F5-0E62-4267-8271-676CFFC2953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 Projection Specific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CACD9-2A6F-431E-8D18-120827116EB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Characteristic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75212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mera/Viewpoint Lo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mera/Viewpoint Dir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mera/Viewpoint Ori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mera/Viewpoint Lens (View Volu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dth/Height of Le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nt/Back Clipping Pla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allel or Perspective Proje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llel is special case of Persp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A9D8-93CA-45E4-9A87-30185376D2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18729" t="45016" r="40924" b="38881"/>
          <a:stretch/>
        </p:blipFill>
        <p:spPr>
          <a:xfrm>
            <a:off x="1295280" y="320040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5680" y="456840"/>
            <a:ext cx="66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 Volu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(a.k.a. Clipping Box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ew Plane (Projection Plan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rcRect l="35880" t="42166" r="23773" b="39316"/>
          <a:stretch/>
        </p:blipFill>
        <p:spPr>
          <a:xfrm>
            <a:off x="6095880" y="167652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C9D8-C1C4-4DE1-8C27-276BFF46D0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penGL Camera or Projection Coordin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6576" t="46493" r="42940" b="36849"/>
          <a:stretch/>
        </p:blipFill>
        <p:spPr>
          <a:xfrm>
            <a:off x="1066680" y="1905120"/>
            <a:ext cx="37720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5181480" y="2057400"/>
          <a:ext cx="371484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057400"/>
                    <a:ext cx="3714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4CF7-E355-439A-BAA8-511EEAE2B58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2401920"/>
            <a:ext cx="73152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assical and General View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EAD7F-C593-440C-87B8-B7CD47E357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45840" y="4568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ecifying Viewing Characteristic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xed Camera / Move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ok At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 Volume / Display Plane Specif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ctor Specif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F122-2509-4DE1-AD4D-D2841BFF177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mera Location Relative to World Coordin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n be thought of in two way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mera location is specified in world coordin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coordinate frame is located in camera coordin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mera transformations are reverse of World transform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A331-F867-4D94-8BC3-8B50818DE2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ixed Camera / Move Worl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729" t="35042" r="17719" b="38030"/>
          <a:stretch/>
        </p:blipFill>
        <p:spPr>
          <a:xfrm>
            <a:off x="3124080" y="2835360"/>
            <a:ext cx="5562720" cy="3336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x the camera at a specific location/ori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orm the world such that the camera sees the world the “right” way – I.e., move the world, not the camer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ical approach for OpenG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17BE-CEF5-479D-A32C-422975AE799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6800" t="52850" r="37897" b="31481"/>
          <a:stretch/>
        </p:blipFill>
        <p:spPr>
          <a:xfrm>
            <a:off x="4343400" y="3367080"/>
            <a:ext cx="4419720" cy="2779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ok At”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up the camera to “Look At” the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the camera lo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the “look at” poi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the camera rotation ang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: gluLook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9F3A-0B5A-422E-88DA-03752F176AB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 Volume / Display Plane Specific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cify View Volume and Display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219320" y="2819520"/>
          <a:ext cx="7118280" cy="28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19520"/>
                    <a:ext cx="711828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DFC5-0E8E-4A0F-A18A-D8BE64228D4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 with View Volum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projection information is captured in view volume and projection plan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happens if we play with these values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lique Parallel Proj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Right Frustum Perspective Proj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ew Volume Valu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ower-Left Corner/Upper Right Corner of back and front plan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ack Plane Angles/Front Plane Angl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ojection Plan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ower-Left Corner/Upper-Right Corn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ngl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ocation Relative to View Volum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952880" y="4191120"/>
          <a:ext cx="3705480" cy="196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191120"/>
                    <a:ext cx="3705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4097-2CA2-4869-8E4B-5AFEF95C244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ctor Specific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st flexible method of viewing specif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 plane may be anywhere with respect to the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cate the View Plane (I.e. Projection Plane) b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iew reference poin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VR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iew-plane nor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VPN)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xi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699160" y="4343400"/>
          <a:ext cx="3444840" cy="203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9160" y="4343400"/>
                    <a:ext cx="344484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B365-8459-4C5B-BCE5-9F856DAF13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RC Coordinate Syste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ing-Reference Coordinate (VRC)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xis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- along View-plane nor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VP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xis – proj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iew-up Vecto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VU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u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xis – Right hand coordinate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0" y="3848040"/>
          <a:ext cx="39020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848040"/>
                    <a:ext cx="39020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F91B-8E8A-43D8-9DD2-8A2A45929AE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ing Windo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n/Max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ran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d not be symmetrical around VR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743200" y="2971800"/>
          <a:ext cx="5743440" cy="28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971800"/>
                    <a:ext cx="574344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C80A-5731-4B2D-B541-655ABF8F4DF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enter of Pro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Projection-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(PRP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52680" y="2362320"/>
          <a:ext cx="4953240" cy="35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362320"/>
                    <a:ext cx="4953240" cy="35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FF7F-5CB0-46DB-A714-0A15D279A62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27636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cess for “Seeing” a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ion of a 3D world onto a 2D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ynthetic Camera Mod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29E9-2E74-4E94-AA23-E3F42417A0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rection of Pro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Projection-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(PRP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81080" y="2590920"/>
          <a:ext cx="6143760" cy="31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590920"/>
                    <a:ext cx="6143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E1C5-FC8C-40C1-9B79-0EB2DBB6223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lique Parallel Pro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ctor from PRP to Center of the Window not parallel to VP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19520" y="3352680"/>
          <a:ext cx="5700600" cy="27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352680"/>
                    <a:ext cx="5700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5F26-6383-4B1A-B8A9-33019702E1B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erspective View Volum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71600" y="2133720"/>
          <a:ext cx="6699240" cy="38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669924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2453-6F03-4F60-A9D0-4F5009DE1B6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rthogonal View Volum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cification of Viewing Volu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3880" y="2362320"/>
          <a:ext cx="6704280" cy="36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362320"/>
                    <a:ext cx="670428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1024-237A-471D-87EA-7C407769976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lique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00200" y="2057400"/>
          <a:ext cx="664524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64524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697C-0E82-4078-B284-EE7AB4550FCF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Specification in OpenG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09FA8-0CED-46A1-BC3E-2CF412917B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Specification in OpenG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cate World in Camera Coordin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ternative: gluLookAt encapsulates world to camera coordinate transform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lect View Type (Pespective or Orthogona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View Volume (glFrustum, glOrtho, gluPerspectiv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ear clipping plane is projection plan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ceptually not as flexible as VRC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though with world coordinate transformation, you can obtain the same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85B5-626C-4BA2-B92B-768A2B58DD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s in OpenG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mera located at (0,0,0) pointing in the –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ion.  Up is positive y direc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_Modelview Matrix controls the wor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_Projection Matrix controls the camer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4495680"/>
          <a:ext cx="8035920" cy="14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495680"/>
                    <a:ext cx="803592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4457-076C-4AEA-99ED-99E0DE1D869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ve the world relative to the camer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ving the camera +10 along the Z axis is equivalent to moving the world –10 along the Z ax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rotating the camera positively around the y axis is the same as rotating the world negatively around the y axis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F3E2-3F11-4BD6-AADD-BA79DDB17C8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26800" y="456840"/>
            <a:ext cx="71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penGL Implementation of View Volume / Display Pla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Frustu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lay Plane is same as Near Clipping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ecify Lower-Left and Upper Right Corners of Near Clipping Pla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ecify Near and Far Dista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819520" y="3621240"/>
          <a:ext cx="6030720" cy="26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621240"/>
                    <a:ext cx="603072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1C1F-C162-4AE4-B5E8-55C76D7F3199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ewing Iss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cation of view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cation of view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can be seen (Clipping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relationships are mainta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allel Lin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g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ances (Foreshorten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to View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D3BA-0B05-4BB6-8971-1B173F25AD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lFrustum Varia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play Axis (-z) does not have to go through the center of the windo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77720" y="2590920"/>
          <a:ext cx="8666280" cy="35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7720" y="2590920"/>
                    <a:ext cx="866628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5A70-9FBF-416C-9E5E-789C36E1A1C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penGL Alternativ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ernative: gluPersp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ecifies Frustum via viewing angl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ala Camera Len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Ortho – Orthogonal Proje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F15E-0117-467B-A91F-04FDB52C46E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pic &gt;&gt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Transforma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Throughout the following discussions, we assume an OpenGL-like camera coordinate system (COP at the origin, DOP along the z axis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v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&lt; 0).  The concepts are the same for any arbitrary viewing configuration but the math is slightly more complicated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F731-2A5C-422F-9137-411E0C2BA8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ng Points onto a Display Plane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jection of world onto display plane involves a perspective transformation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’=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 affine (parallel lines do not remain paralle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reversabl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3124080"/>
            <a:ext cx="9144000" cy="2654280"/>
            <a:chOff x="0" y="3124080"/>
            <a:chExt cx="9144000" cy="26542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rcRect l="15702" t="40742" r="21756" b="46440"/>
            <a:stretch/>
          </p:blipFill>
          <p:spPr>
            <a:xfrm>
              <a:off x="0" y="3124080"/>
              <a:ext cx="914400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657600" y="3429000"/>
              <a:ext cx="7621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,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64160" y="3657600"/>
              <a:ext cx="59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=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3657600"/>
              <a:ext cx="7617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,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7880" y="4572000"/>
              <a:ext cx="59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=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93400" y="5791320"/>
            <a:ext cx="82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The book has several errors in the mathematics in thi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D451-790E-4531-940E-E2EF3E29A2C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of point onto display pla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erv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Same for y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ults in non-uniform foreshorte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3276720"/>
            <a:ext cx="9144000" cy="2654280"/>
            <a:chOff x="0" y="3276720"/>
            <a:chExt cx="9144000" cy="2654280"/>
          </a:xfrm>
        </p:grpSpPr>
        <p:pic>
          <p:nvPicPr>
            <p:cNvPr id="284" name="" descr=""/>
            <p:cNvPicPr/>
            <p:nvPr/>
          </p:nvPicPr>
          <p:blipFill>
            <a:blip r:embed="rId4"/>
            <a:srcRect l="15702" t="40742" r="21756" b="46440"/>
            <a:stretch/>
          </p:blipFill>
          <p:spPr>
            <a:xfrm>
              <a:off x="0" y="3276720"/>
              <a:ext cx="914400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657600" y="3581640"/>
              <a:ext cx="7621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,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64160" y="3810240"/>
              <a:ext cx="59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=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62920" y="3810240"/>
              <a:ext cx="7617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,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7880" y="4724640"/>
              <a:ext cx="59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=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819520" y="1600200"/>
                <a:ext cx="2868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1FCA-BD44-44B3-B906-367242DCCB2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e of Homogeneous Coordin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use a “trick” with homogeneous coordinates to make perspective transformation easi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mogeneous Representation of poin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se, instea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 long as w &lt;&gt; 0, we can recover original 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553080" y="2590920"/>
                <a:ext cx="9115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581280" y="3657600"/>
                <a:ext cx="11160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3CC5-12AC-4B28-B63F-8595774ACD5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e of w in homogeneous coordin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t matrix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ransforms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into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219320" y="2819520"/>
                <a:ext cx="7010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z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C85C-2872-453B-937F-5F0B2497FD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q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n conver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ack to a 3D poi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us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our projec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nto the display plan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95480" y="2286000"/>
                <a:ext cx="356868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z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8237-BB6D-4CFC-8105-B196CBFB483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us, M is 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 Narrow"/>
              </a:rPr>
              <a:t>per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us, the matrix M is used to project points onto a perspective display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43200" y="2895480"/>
                <a:ext cx="3984480" cy="26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B4AB-A6ED-46A7-BD18-0B4D056D8AC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imple Projection Pipe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mple OpenGL-like Projection Matrix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676520" y="3276720"/>
          <a:ext cx="6519600" cy="15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276720"/>
                    <a:ext cx="651960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4EB7-DAD0-4BFC-9EC7-2C7C052BA10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jects vs Scen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me viewing techniques better suited for viewing single objects rather than entire sce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ing an object from the outside (external viewing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ineering, External Build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ing an object from within (internal viewing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nal Buildings, Ga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AF38-E3D2-4970-8144-DCDBCB5AC5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rthogonal Projections, M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Narrow"/>
              </a:rPr>
              <a:t>orth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cial Case of Perspective Proje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play Plane a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3048120"/>
                <a:ext cx="17967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657600" y="3048120"/>
                <a:ext cx="472428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BA4B-BDFC-455C-9B32-71FB110085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w What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ral issues are not address with the simple projection matrixes we have developed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D Clipping Efficiency in a Frustum Viewing Volu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dden Surface Efficie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lution: Use Projection Normaliz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ride of perspective and other problem projections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rything is easier in an canonical, orthogonal world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EB11-9D1D-4032-9B7F-1D48D541005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p Against View Volum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2286000"/>
          <a:ext cx="787212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7212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32FB-AEA1-4CDB-BAB4-57F932C61F3A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nonical View Volum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Viewing Volume via Canonical View Volum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us: Easier Clip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us: Another Trans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GL volume (other APIs may be different)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876920" y="3657600"/>
          <a:ext cx="3192480" cy="25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657600"/>
                    <a:ext cx="319248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4DD9-1F39-44B3-A4F1-98CB190CE6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Normaliz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tort world until viewing volume in world fits into a parallel canonical view volu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133720" y="2819520"/>
          <a:ext cx="563868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19520"/>
                    <a:ext cx="56386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8022-FCE5-471D-96F8-514C69D2B3F8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3D Viewing Transform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put 3D World Coordina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tput 3D Normalized Device Coordina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a.k.a. Window Coordin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3657600"/>
          <a:ext cx="9144000" cy="20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657600"/>
                    <a:ext cx="914400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B4DB-3FEB-46D3-BA24-55EA9FDD01A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jection Matrix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267080"/>
                <a:ext cx="220320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s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m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tho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971800" y="36576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43434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ign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476760" y="35812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01000" y="36576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0" y="1676520"/>
          <a:ext cx="9144000" cy="20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419720" y="36576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85800" y="4419720"/>
                <a:ext cx="189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m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 flipH="1">
            <a:off x="609480" y="36576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36576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E0E5-55A8-4892-B32E-F7199160D28D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mera Transformation in Orthogonal Views 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cam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World to Camera Coordin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mera at origin, looking in the –z dir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play plane center along the z ax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ations of translate, scale, and rotate transform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accomplished through camera location spec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14800" y="3841920"/>
          <a:ext cx="4800600" cy="23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841920"/>
                    <a:ext cx="4800600" cy="23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1ED6-8410-48C7-BD49-3096F339A9C7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jection Normalization for Orthographic Views 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ortho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nslate along the z axis until the front clipping plane is at the orig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le in all three dimensions until the viewing volume is in canonical 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724280" y="3203640"/>
          <a:ext cx="3948120" cy="298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3640"/>
                    <a:ext cx="394812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B45B-4F50-4220-8956-F0C63C923C4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jection Normalization for Orthographic View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88800" y="2666880"/>
                <a:ext cx="8705880" cy="27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h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ho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h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0223-EBEC-4534-AFFE-77E2D1403F89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 N-Dimensions Coordinates onto &lt;N Dimensions Coordina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: 3D projected onto 2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E51A-C07F-4A54-BB61-1BFA83F6F7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mera Transformation for Perspective Views 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cam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World to Camera Coordin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mera (COP) at origin, looking in the –z dir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play plane center along the z ax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ations of translate, scale, and rotate transform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accomplished through camera location spec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038480" y="3879720"/>
          <a:ext cx="4724640" cy="23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79720"/>
                    <a:ext cx="4724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ECC4-6AF0-48F1-BD5A-568ADC3719B1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Normalization for Perspective Views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pers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90920" y="1828800"/>
          <a:ext cx="588168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88168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9162-C8A8-42FC-AB82-B5C64FA25C89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ion Normalization for Perspective Views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pers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) Convert viewing box to right frustu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is because many APIs including OpenGL allow non-right viewing volum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) Scale the right frustum into canonical for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) Convert viewing box (right frustum) to a right parallelpip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rinking” objects that are further a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876920" y="3886200"/>
          <a:ext cx="3047760" cy="22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886200"/>
                    <a:ext cx="3047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6E8E-EAF7-4FB3-A328-D697FBC1DDD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erspective-Normalization Matrix (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 Narrow"/>
              </a:rPr>
              <a:t>per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s Frustum View Volume into Canonical Orthogonal View Volu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028880" y="3139920"/>
                <a:ext cx="7860960" cy="28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7EBB-B590-4039-B201-C8794DF81757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jection Normalization for Perspective Views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79440" y="1752480"/>
                <a:ext cx="8705880" cy="27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 H converts a non-right frustum to a right frustu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 S scales the frustum into a canonical perspective view volum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 N is the Perspective-Normalization Matr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A279-5CB5-45C1-93D6-30E3305E50EA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 onto Projection Pla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nce normalization changed all projections into an orthogonal projectio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ust ignore the z value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effect, a non-event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reality, we retain the z-value for hidden-surface removal and shading effect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ewable world now in Normalized Device Coordinates (NDC) or Window Coordina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596A-83FD-44E8-9D6F-691BB8835882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3D Viewing 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1965240"/>
          <a:ext cx="91440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5240"/>
                    <a:ext cx="91440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1ED7-A545-43C9-8785-3DF204A76E4E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jecto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ors: lines from coordinate in Original Space to coordinate in Projected Spa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52480" y="3276720"/>
          <a:ext cx="3124440" cy="25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76720"/>
                    <a:ext cx="312444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257800" y="3352680"/>
          <a:ext cx="3079800" cy="25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3352680"/>
                    <a:ext cx="30798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8398-FAB5-4CED-A6BB-7713B18DCD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lanar Geometric Pro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ion onto a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jectors are straight li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ernativ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Cartagraphic Proje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mnima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24280" y="4114800"/>
          <a:ext cx="3673440" cy="19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4114800"/>
                    <a:ext cx="36734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44D1-81DE-4BF3-8587-6CB29C402D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2:33:15Z</dcterms:created>
  <dc:creator>Keith Bennett</dc:creator>
  <dc:description/>
  <dc:language>en-US</dc:language>
  <cp:lastModifiedBy>Gomez, Juan M</cp:lastModifiedBy>
  <dcterms:modified xsi:type="dcterms:W3CDTF">2002-02-26T22:24:49Z</dcterms:modified>
  <cp:revision>174</cp:revision>
  <dc:subject/>
  <dc:title>CS453 Computer Graphics</dc:title>
</cp:coreProperties>
</file>